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10.pct" ContentType="image/x-pict"/>
  <Override PartName="/ppt/media/image15.pct" ContentType="image/x-pict"/>
  <Override PartName="/ppt/media/image14.pct" ContentType="image/x-pict"/>
  <Override PartName="/ppt/media/image9.pct" ContentType="image/x-pict"/>
  <Override PartName="/ppt/media/image5.png" ContentType="image/png"/>
  <Override PartName="/ppt/media/image3.jpeg" ContentType="image/jpeg"/>
  <Override PartName="/ppt/media/image6.pct" ContentType="image/x-pict"/>
  <Override PartName="/ppt/media/image11.pct" ContentType="image/x-pict"/>
  <Override PartName="/ppt/media/image1.jpeg" ContentType="image/jpeg"/>
  <Override PartName="/ppt/media/image7.png" ContentType="image/png"/>
  <Override PartName="/ppt/media/image8.pct" ContentType="image/x-pict"/>
  <Override PartName="/ppt/media/image4.jpeg" ContentType="image/jpeg"/>
  <Override PartName="/ppt/media/image13.pct" ContentType="image/x-pict"/>
  <Override PartName="/ppt/media/image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72840" y="215640"/>
            <a:ext cx="77850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516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3748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7284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516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3748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72840" y="215640"/>
            <a:ext cx="77850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516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748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7284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516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748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30516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3748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284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30516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3748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72840" y="215640"/>
            <a:ext cx="77850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0516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3748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7284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30516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3748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72840" y="215640"/>
            <a:ext cx="77850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0516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3748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7284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0516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3748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72840" y="215640"/>
            <a:ext cx="77850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30516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3748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7284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30516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3748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72840" y="215640"/>
            <a:ext cx="77850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0516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3748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7284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0516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3748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72840" y="215640"/>
            <a:ext cx="77850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0516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3748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7284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0516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3748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72840" y="215640"/>
            <a:ext cx="77850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0516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3748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7284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0516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3748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72840" y="215640"/>
            <a:ext cx="77850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0516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3748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7284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0516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3748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72840" y="215640"/>
            <a:ext cx="77850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72840" y="215640"/>
            <a:ext cx="77850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0516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3748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7284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0516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3748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72840" y="215640"/>
            <a:ext cx="77850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30516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3748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7284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30516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93748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72840" y="215640"/>
            <a:ext cx="77850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0516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3748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7284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0516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3748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72840" y="215640"/>
            <a:ext cx="77850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2840" y="4287240"/>
            <a:ext cx="778500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2000" y="218412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7284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2000" y="4287240"/>
            <a:ext cx="379872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0516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7480" y="2184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7284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0516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7480" y="4287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1501920"/>
            <a:ext cx="825516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300240" indent="-300240">
              <a:spcBef>
                <a:spcPts val="22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1" marL="589320" indent="-300240">
              <a:spcBef>
                <a:spcPts val="22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2" marL="912960" indent="-300240">
              <a:spcBef>
                <a:spcPts val="22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3" marL="1236600" indent="-300240">
              <a:spcBef>
                <a:spcPts val="22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4" marL="1560240" indent="-300600">
              <a:spcBef>
                <a:spcPts val="22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5" marL="1560240" indent="-300600">
              <a:spcBef>
                <a:spcPts val="22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6" marL="1560240" indent="-300600">
              <a:spcBef>
                <a:spcPts val="22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672840" y="927000"/>
            <a:ext cx="7785000" cy="5004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5000"/>
          </a:bodyPr>
          <a:p>
            <a:pPr marL="313560" indent="-313560">
              <a:spcBef>
                <a:spcPts val="33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1" marL="615240" indent="-313560">
              <a:spcBef>
                <a:spcPts val="33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2" marL="952920" indent="-313560">
              <a:spcBef>
                <a:spcPts val="33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3" marL="1290960" indent="-313560">
              <a:spcBef>
                <a:spcPts val="33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4" marL="1628640" indent="-313920">
              <a:spcBef>
                <a:spcPts val="33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5" marL="1628640" indent="-313920">
              <a:spcBef>
                <a:spcPts val="33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6" marL="1628640" indent="-313920">
              <a:spcBef>
                <a:spcPts val="33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0" y="1501920"/>
            <a:ext cx="8255160" cy="46980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1000"/>
          </a:bodyPr>
          <a:p>
            <a:pPr marL="300240" indent="-300240">
              <a:spcBef>
                <a:spcPts val="22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1" marL="589320" indent="-300240">
              <a:spcBef>
                <a:spcPts val="22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2" marL="912960" indent="-300240">
              <a:spcBef>
                <a:spcPts val="22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3" marL="1236600" indent="-300240">
              <a:spcBef>
                <a:spcPts val="22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4" marL="1560240" indent="-300600">
              <a:spcBef>
                <a:spcPts val="22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5" marL="1560240" indent="-300600">
              <a:spcBef>
                <a:spcPts val="22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6" marL="1560240" indent="-300600">
              <a:spcBef>
                <a:spcPts val="22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0" y="1501920"/>
            <a:ext cx="8255160" cy="46980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300240" indent="-300240">
              <a:spcBef>
                <a:spcPts val="22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1" marL="589320" indent="-300240">
              <a:spcBef>
                <a:spcPts val="22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2" marL="912960" indent="-300240">
              <a:spcBef>
                <a:spcPts val="22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3" marL="1236600" indent="-300240">
              <a:spcBef>
                <a:spcPts val="22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4" marL="1560240" indent="-300600">
              <a:spcBef>
                <a:spcPts val="22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5" marL="1560240" indent="-300600">
              <a:spcBef>
                <a:spcPts val="22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6" marL="1560240" indent="-300600">
              <a:spcBef>
                <a:spcPts val="22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72840" y="2184120"/>
            <a:ext cx="778500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300240" indent="-30024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1" marL="589320" indent="-30024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2" marL="912960" indent="-30024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3" marL="1236600" indent="-30024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4" marL="1560240" indent="-30060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5" marL="1560240" indent="-30060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6" marL="1560240" indent="-30060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2840" y="2184120"/>
            <a:ext cx="35305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254160" indent="-25416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1" marL="498600" indent="-25416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2" marL="772200" indent="-25416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3" marL="1046160" indent="-25416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4" marL="1320120" indent="-25416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5" marL="1320120" indent="-25416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6" marL="1320120" indent="-25416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2840" y="2184120"/>
            <a:ext cx="35305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254160" indent="-25416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1" marL="498600" indent="-25416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2" marL="772200" indent="-25416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3" marL="1046160" indent="-25416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4" marL="1320120" indent="-25416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5" marL="1320120" indent="-25416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6" marL="1320120" indent="-25416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927320" y="2184120"/>
            <a:ext cx="35305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254160" indent="-25416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1" marL="498600" indent="-25416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2" marL="772200" indent="-25416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3" marL="1046160" indent="-25416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4" marL="1320120" indent="-25416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5" marL="1320120" indent="-25416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  <a:p>
            <a:pPr lvl="6" marL="1320120" indent="-254160">
              <a:spcBef>
                <a:spcPts val="2299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0" y="1501920"/>
            <a:ext cx="8255160" cy="469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2840" y="215640"/>
            <a:ext cx="7785000" cy="146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2840" y="2400120"/>
            <a:ext cx="7785000" cy="2057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2840" y="1739520"/>
            <a:ext cx="7785000" cy="2057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2840" y="3784320"/>
            <a:ext cx="778500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1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2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3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4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5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lvl="6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3240" y="4737240"/>
            <a:ext cx="8240760" cy="4824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72840" y="4546080"/>
            <a:ext cx="7785000" cy="12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2840" y="5829120"/>
            <a:ext cx="7785000" cy="711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ebcd9c"/>
              </a:solidFill>
              <a:latin typeface="Gill Sans"/>
            </a:endParaRPr>
          </a:p>
          <a:p>
            <a:pPr lvl="1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ebcd9c"/>
              </a:solidFill>
              <a:latin typeface="Gill Sans"/>
            </a:endParaRPr>
          </a:p>
          <a:p>
            <a:pPr lvl="2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ebcd9c"/>
              </a:solidFill>
              <a:latin typeface="Gill Sans"/>
            </a:endParaRPr>
          </a:p>
          <a:p>
            <a:pPr lvl="3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ebcd9c"/>
              </a:solidFill>
              <a:latin typeface="Gill Sans"/>
            </a:endParaRPr>
          </a:p>
          <a:p>
            <a:pPr lvl="4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ebcd9c"/>
              </a:solidFill>
              <a:latin typeface="Gill Sans"/>
            </a:endParaRPr>
          </a:p>
          <a:p>
            <a:pPr lvl="5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ebcd9c"/>
              </a:solidFill>
              <a:latin typeface="Gill Sans"/>
            </a:endParaRPr>
          </a:p>
          <a:p>
            <a:pPr lvl="6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hyperlink" Target="http://www.flickr.com/photos/lovetori/2505915358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5.pct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ct"/><Relationship Id="rId6" Type="http://schemas.openxmlformats.org/officeDocument/2006/relationships/hyperlink" Target="http://members.whattheythink.com/home/education-week-2007/071107-pellow.cfm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pct"/><Relationship Id="rId6" Type="http://schemas.openxmlformats.org/officeDocument/2006/relationships/hyperlink" Target="http://www.flickr.com/photos/fortandfield/2602350897/" TargetMode="Externa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pct"/><Relationship Id="rId6" Type="http://schemas.openxmlformats.org/officeDocument/2006/relationships/hyperlink" Target="http://www.providersedge.com/kma/images/collaboration_j0178816.jpg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1.pct"/><Relationship Id="rId6" Type="http://schemas.openxmlformats.org/officeDocument/2006/relationships/hyperlink" Target="http://www.stadtwanderer.net/blog/media/Communication_by_Isabelle_Cardinal___800x600.jpg" TargetMode="Externa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2.pct"/><Relationship Id="rId6" Type="http://schemas.openxmlformats.org/officeDocument/2006/relationships/hyperlink" Target="http://www.leeds.ac.uk/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3.pct"/><Relationship Id="rId6" Type="http://schemas.openxmlformats.org/officeDocument/2006/relationships/hyperlink" Target="http://www.flickr.com/photos/dml10/2340260013/" TargetMode="Externa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pct"/><Relationship Id="rId6" Type="http://schemas.openxmlformats.org/officeDocument/2006/relationships/hyperlink" Target="http://www.wmnet.org.uk/resources/stern/stern/commonimages/ideabulbs.jpg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622080" y="2514240"/>
            <a:ext cx="7886520" cy="4165560"/>
          </a:xfrm>
          <a:prstGeom prst="rect">
            <a:avLst/>
          </a:prstGeom>
          <a:noFill/>
          <a:ln w="0">
            <a:noFill/>
          </a:ln>
        </p:spPr>
        <p:txBody>
          <a:bodyPr lIns="38160" rIns="39600" tIns="38160" bIns="38160" anchor="ctr">
            <a:normAutofit/>
          </a:bodyPr>
          <a:p>
            <a:pPr marL="382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3eb00"/>
                </a:solidFill>
                <a:latin typeface="Arial"/>
                <a:ea typeface="Arial"/>
              </a:rPr>
              <a:t>Technology and</a:t>
            </a:r>
            <a:endParaRPr b="0" lang="en-US" sz="3600" spc="-1" strike="noStrike">
              <a:solidFill>
                <a:srgbClr val="ebcd9c"/>
              </a:solidFill>
              <a:latin typeface="Gill Sans"/>
            </a:endParaRPr>
          </a:p>
          <a:p>
            <a:pPr marL="382680" indent="0" algn="ctr">
              <a:lnSpc>
                <a:spcPct val="5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3eb00"/>
                </a:solidFill>
                <a:latin typeface="Arial"/>
                <a:ea typeface="Arial"/>
              </a:rPr>
              <a:t>Approaches to Learning </a:t>
            </a:r>
            <a:r>
              <a:rPr b="0" i="1" lang="en-US" sz="3600" spc="-1" strike="noStrike">
                <a:solidFill>
                  <a:srgbClr val="f3eb00"/>
                </a:solidFill>
                <a:latin typeface="Arial"/>
                <a:ea typeface="Arial"/>
              </a:rPr>
              <a:t>(ATL’s)</a:t>
            </a:r>
            <a:endParaRPr b="0" lang="en-US" sz="3600" spc="-1" strike="noStrike">
              <a:solidFill>
                <a:srgbClr val="ebcd9c"/>
              </a:solidFill>
              <a:latin typeface="Gill Sans"/>
            </a:endParaRPr>
          </a:p>
          <a:p>
            <a:pPr marL="382680" indent="0" algn="ctr">
              <a:lnSpc>
                <a:spcPct val="10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How does technology best help us learn? 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382680" indent="0" algn="ctr">
              <a:lnSpc>
                <a:spcPct val="10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How does technology help us organize ourselves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382680" indent="0" algn="ctr">
              <a:lnSpc>
                <a:spcPct val="10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How does technology help us communicate our understandings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3492360" y="444600"/>
            <a:ext cx="2146320" cy="21463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3292560" y="2585520"/>
            <a:ext cx="2539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flickr.com/photos/lovetori/2505915358/</a:t>
            </a:r>
            <a:endParaRPr b="0" lang="en-US" sz="9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84280" y="62208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38160" rIns="39600" tIns="38160" bIns="38160" anchor="ctr">
            <a:noAutofit/>
          </a:bodyPr>
          <a:p>
            <a:pPr marL="3826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ransfer</a:t>
            </a:r>
            <a:endParaRPr b="0" lang="en-US" sz="36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99920" y="3987360"/>
            <a:ext cx="7785000" cy="241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6000"/>
          </a:bodyPr>
          <a:p>
            <a:pPr marL="316800" indent="-31680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What are the “big ideas” of each of the different subjects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316800" indent="-31680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Do the big ideas of the subjects ovelap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316800" indent="-31680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How can I use my knowledge, understanding and skills across subjects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2708280" y="2057400"/>
            <a:ext cx="3530520" cy="168912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3118320" y="3804840"/>
            <a:ext cx="2896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ebcd9c"/>
                </a:solidFill>
                <a:uFillTx/>
                <a:latin typeface="Arial"/>
                <a:ea typeface="Arial"/>
              </a:rPr>
              <a:t>http://www.is.wayne.edu/mnissani/elephant/elephant.htm</a:t>
            </a:r>
            <a:endParaRPr b="0" lang="en-US" sz="9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95360" y="8125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38160" rIns="39600" tIns="38160" bIns="381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y do we have ATL’s?</a:t>
            </a:r>
            <a:br>
              <a:rPr sz="3600"/>
            </a:br>
            <a:endParaRPr b="0" lang="en-US" sz="3600" spc="-1" strike="noStrike">
              <a:solidFill>
                <a:srgbClr val="ececec"/>
              </a:solidFill>
              <a:latin typeface="Gill Sans"/>
            </a:endParaRPr>
          </a:p>
          <a:p>
            <a:pPr marL="39600" indent="0" algn="ctr">
              <a:lnSpc>
                <a:spcPct val="10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1160" y="3822840"/>
            <a:ext cx="7277040" cy="2628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to develop general and subject-specific skills that students apply throughout the MYP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to teach students how to learn  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to help students find out about themselves as learners so they can develop learning skills 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3308400" y="2044800"/>
            <a:ext cx="2266920" cy="15112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2362320" y="3575160"/>
            <a:ext cx="492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http://members.whattheythink.com/home/education-week-2007/071107-pellow.cfm</a:t>
            </a:r>
            <a:endParaRPr b="0" lang="en-US" sz="9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55680" y="520200"/>
            <a:ext cx="8191440" cy="723960"/>
          </a:xfrm>
          <a:prstGeom prst="rect">
            <a:avLst/>
          </a:prstGeom>
          <a:noFill/>
          <a:ln w="0">
            <a:noFill/>
          </a:ln>
        </p:spPr>
        <p:txBody>
          <a:bodyPr lIns="38160" rIns="39600" tIns="38160" bIns="381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ow does the IB define ATL’s?</a:t>
            </a:r>
            <a:br>
              <a:rPr sz="3600"/>
            </a:br>
            <a:endParaRPr b="0" lang="en-US" sz="3600" spc="-1" strike="noStrike">
              <a:solidFill>
                <a:srgbClr val="ececec"/>
              </a:solidFill>
              <a:latin typeface="Gill Sans"/>
            </a:endParaRPr>
          </a:p>
          <a:p>
            <a:pPr marL="39600" indent="0" algn="ctr">
              <a:lnSpc>
                <a:spcPct val="10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61760" y="977760"/>
            <a:ext cx="7962840" cy="5600880"/>
          </a:xfrm>
          <a:prstGeom prst="rect">
            <a:avLst/>
          </a:prstGeom>
          <a:noFill/>
          <a:ln w="0">
            <a:noFill/>
          </a:ln>
        </p:spPr>
        <p:txBody>
          <a:bodyPr lIns="38160" rIns="39600" tIns="38160" bIns="38160" anchor="ctr">
            <a:normAutofit/>
          </a:bodyPr>
          <a:p>
            <a:pPr marL="3826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cd9c"/>
                </a:solidFill>
                <a:latin typeface="Arial"/>
                <a:ea typeface="Arial"/>
              </a:rPr>
              <a:t>Organization - time management; self-management</a:t>
            </a:r>
            <a:endParaRPr b="0" lang="en-US" sz="2000" spc="-1" strike="noStrike">
              <a:solidFill>
                <a:srgbClr val="ebcd9c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cd9c"/>
                </a:solidFill>
                <a:latin typeface="Arial"/>
                <a:ea typeface="Arial"/>
              </a:rPr>
              <a:t>Collaboration - working in groups; accepting others; personal challenges</a:t>
            </a:r>
            <a:endParaRPr b="0" lang="en-US" sz="2000" spc="-1" strike="noStrike">
              <a:solidFill>
                <a:srgbClr val="ebcd9c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cd9c"/>
                </a:solidFill>
                <a:latin typeface="Arial"/>
                <a:ea typeface="Arial"/>
              </a:rPr>
              <a:t>Communication - literacy; being informed; informing others</a:t>
            </a:r>
            <a:endParaRPr b="0" lang="en-US" sz="2000" spc="-1" strike="noStrike">
              <a:solidFill>
                <a:srgbClr val="ebcd9c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cd9c"/>
                </a:solidFill>
                <a:latin typeface="Arial"/>
                <a:ea typeface="Arial"/>
              </a:rPr>
              <a:t>Information Literacy - accessing information; selecting and organizing information; referencing</a:t>
            </a:r>
            <a:endParaRPr b="0" lang="en-US" sz="2000" spc="-1" strike="noStrike">
              <a:solidFill>
                <a:srgbClr val="ebcd9c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cd9c"/>
                </a:solidFill>
                <a:latin typeface="Arial"/>
                <a:ea typeface="Arial"/>
              </a:rPr>
              <a:t>Reflection - self-awareness; self-evaluation</a:t>
            </a:r>
            <a:endParaRPr b="0" lang="en-US" sz="2000" spc="-1" strike="noStrike">
              <a:solidFill>
                <a:srgbClr val="ebcd9c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cd9c"/>
                </a:solidFill>
                <a:latin typeface="Arial"/>
                <a:ea typeface="Arial"/>
              </a:rPr>
              <a:t>Thinking - generating ideas; planning; inquiring; applying knowledge and concepts;  identifying problems; creating novel solutions</a:t>
            </a:r>
            <a:endParaRPr b="0" lang="en-US" sz="2000" spc="-1" strike="noStrike">
              <a:solidFill>
                <a:srgbClr val="ebcd9c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cd9c"/>
                </a:solidFill>
                <a:latin typeface="Arial"/>
                <a:ea typeface="Arial"/>
              </a:rPr>
              <a:t>Transfer - making connections; inquiring in different contexts</a:t>
            </a:r>
            <a:endParaRPr b="0" lang="en-US" sz="20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-127080" y="787320"/>
            <a:ext cx="9144000" cy="711360"/>
          </a:xfrm>
          <a:prstGeom prst="rect">
            <a:avLst/>
          </a:prstGeom>
          <a:noFill/>
          <a:ln w="0">
            <a:noFill/>
          </a:ln>
        </p:spPr>
        <p:txBody>
          <a:bodyPr lIns="38160" rIns="39600" tIns="38160" bIns="38160" anchor="ctr">
            <a:noAutofit/>
          </a:bodyPr>
          <a:p>
            <a:pPr marL="3826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rganization</a:t>
            </a:r>
            <a:endParaRPr b="0" lang="en-US" sz="36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18960" y="4266720"/>
            <a:ext cx="7429320" cy="224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What organizational tools do I have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What aspects of my organization do I need to develop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How can I best organize myself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2984400" y="2057400"/>
            <a:ext cx="2914920" cy="19432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3076920" y="4109400"/>
            <a:ext cx="2737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http://www.flickr.com/photos/fortandfield/2602350897/</a:t>
            </a:r>
            <a:endParaRPr b="0" lang="en-US" sz="9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080" y="685800"/>
            <a:ext cx="7924680" cy="1155600"/>
          </a:xfrm>
          <a:prstGeom prst="rect">
            <a:avLst/>
          </a:prstGeom>
          <a:noFill/>
          <a:ln w="0">
            <a:noFill/>
          </a:ln>
        </p:spPr>
        <p:txBody>
          <a:bodyPr lIns="38160" rIns="39600" tIns="38160" bIns="381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llaboration</a:t>
            </a:r>
            <a:br>
              <a:rPr sz="3600"/>
            </a:br>
            <a:endParaRPr b="0" lang="en-US" sz="3600" spc="-1" strike="noStrike">
              <a:solidFill>
                <a:srgbClr val="ececec"/>
              </a:solidFill>
              <a:latin typeface="Gill Sans"/>
            </a:endParaRPr>
          </a:p>
          <a:p>
            <a:pPr marL="39600" indent="0" algn="ctr">
              <a:lnSpc>
                <a:spcPct val="10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63280" y="3924360"/>
            <a:ext cx="7785000" cy="2882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How do I work with others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What successes have I had when I worked with others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How can I work with others; how can they work with me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5"/>
          <a:stretch/>
        </p:blipFill>
        <p:spPr>
          <a:xfrm>
            <a:off x="2816280" y="2019240"/>
            <a:ext cx="3101760" cy="20574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2556720" y="4109400"/>
            <a:ext cx="3606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http://www.providersedge.com/kma/images/collaboration_j0178816.jpg</a:t>
            </a:r>
            <a:endParaRPr b="0" lang="en-US" sz="9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977760" y="3962520"/>
            <a:ext cx="7785360" cy="2527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What communication tools do I use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Which ways of communicating do I need to improve on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How can I better communicate my understanding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5"/>
          <a:stretch/>
        </p:blipFill>
        <p:spPr>
          <a:xfrm>
            <a:off x="3149640" y="2070000"/>
            <a:ext cx="2514600" cy="188136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2456640" y="921600"/>
            <a:ext cx="39056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82680" indent="-343080" algn="ctr">
              <a:lnSpc>
                <a:spcPct val="90000"/>
              </a:lnSpc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mmunication</a:t>
            </a:r>
            <a:endParaRPr b="0" lang="en-US" sz="36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56" name=""/>
          <p:cNvSpPr/>
          <p:nvPr/>
        </p:nvSpPr>
        <p:spPr>
          <a:xfrm>
            <a:off x="1943280" y="3930480"/>
            <a:ext cx="4927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http://www.stadtwanderer.net/blog/media/Communication_by_Isabelle_Cardinal___800x600.jpg</a:t>
            </a:r>
            <a:endParaRPr b="0" lang="en-US" sz="9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469800" y="812880"/>
            <a:ext cx="8191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2680" indent="-343080" algn="ctr">
              <a:lnSpc>
                <a:spcPct val="100000"/>
              </a:lnSpc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formation Literacy</a:t>
            </a:r>
            <a:endParaRPr b="0" lang="en-US" sz="3600" spc="-1" strike="noStrike">
              <a:solidFill>
                <a:srgbClr val="ebcd9c"/>
              </a:solidFill>
              <a:latin typeface="Gill Sans"/>
            </a:endParaRPr>
          </a:p>
          <a:p>
            <a:pPr marL="382680" indent="-343080" algn="ctr">
              <a:lnSpc>
                <a:spcPct val="100000"/>
              </a:lnSpc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58" name=""/>
          <p:cNvSpPr/>
          <p:nvPr/>
        </p:nvSpPr>
        <p:spPr>
          <a:xfrm>
            <a:off x="1828800" y="4533840"/>
            <a:ext cx="6362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  <a:ea typeface="Gill Sans"/>
              </a:rPr>
              <a:t>How can I access information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  <a:ea typeface="Gill Sans"/>
              </a:rPr>
              <a:t>How do I know if the information is reliable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  <a:ea typeface="Gill Sans"/>
              </a:rPr>
              <a:t>What will I do with this information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5"/>
          <a:stretch/>
        </p:blipFill>
        <p:spPr>
          <a:xfrm>
            <a:off x="3073320" y="2209680"/>
            <a:ext cx="2984760" cy="196848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4140360" y="4249080"/>
            <a:ext cx="86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www.leeds.ac.uk</a:t>
            </a:r>
            <a:endParaRPr b="0" lang="en-US" sz="9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9600" tIns="38160" bIns="381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flection</a:t>
            </a:r>
            <a:br>
              <a:rPr sz="3600"/>
            </a:br>
            <a:endParaRPr b="0" lang="en-US" sz="3600" spc="-1" strike="noStrike">
              <a:solidFill>
                <a:srgbClr val="ececec"/>
              </a:solidFill>
              <a:latin typeface="Gill Sans"/>
            </a:endParaRPr>
          </a:p>
          <a:p>
            <a:pPr marL="39600" indent="0" algn="ctr">
              <a:lnSpc>
                <a:spcPct val="10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73120" y="4012920"/>
            <a:ext cx="671832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How do I reflect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How have my reflections helped me learn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What other reflection tools and resources can help me improve my work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5"/>
          <a:stretch/>
        </p:blipFill>
        <p:spPr>
          <a:xfrm>
            <a:off x="3086280" y="2082960"/>
            <a:ext cx="2730240" cy="204768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3217320" y="3893760"/>
            <a:ext cx="248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http://www.flickr.com/photos/dml10/2340260013/</a:t>
            </a:r>
            <a:endParaRPr b="0" lang="en-US" sz="9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29760" y="622080"/>
            <a:ext cx="8153640" cy="1130040"/>
          </a:xfrm>
          <a:prstGeom prst="rect">
            <a:avLst/>
          </a:prstGeom>
          <a:noFill/>
          <a:ln w="0">
            <a:noFill/>
          </a:ln>
        </p:spPr>
        <p:txBody>
          <a:bodyPr lIns="38160" rIns="39600" tIns="38160" bIns="381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inking</a:t>
            </a:r>
            <a:br>
              <a:rPr sz="3600"/>
            </a:br>
            <a:endParaRPr b="0" lang="en-US" sz="3600" spc="-1" strike="noStrike">
              <a:solidFill>
                <a:srgbClr val="ececec"/>
              </a:solidFill>
              <a:latin typeface="Gill Sans"/>
            </a:endParaRPr>
          </a:p>
          <a:p>
            <a:pPr marL="39600" indent="0" algn="ctr">
              <a:lnSpc>
                <a:spcPct val="10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778040" y="4101840"/>
            <a:ext cx="6222960" cy="2552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How do I think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What tools can help me think in different ways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What planning tools do I have?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3137040" y="1981080"/>
            <a:ext cx="2673360" cy="199404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2324160" y="3956040"/>
            <a:ext cx="4927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http://www.wmnet.org.uk/resources/stern/stern/commonimages/ideabulbs.jpg</a:t>
            </a:r>
            <a:endParaRPr b="0" lang="en-US" sz="9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/>
  <cp:revision>0</cp:revision>
  <dc:subject/>
  <dc:title>THE IBMYP </dc:title>
</cp:coreProperties>
</file>